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FF6-F1CB-4960-BD15-5FAF9169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C0D-CD93-4198-AF9A-3584E549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C9F-76FF-41C0-BBA3-09B64BCF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330-9ADE-4F09-9EB1-822EC01B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E2C-5652-4976-B094-0C469B7B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2F9-A1A9-418D-909F-588F556C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0D9-E89F-46F4-AAAE-79BA1304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8B8-D250-468B-B3D8-E0F5F023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A3C-0F92-4757-89C3-76FCF779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247-5B55-49C0-852D-4FB09D6C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5F2-7E6C-46E8-803A-5DE29979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20B-13BB-4446-8ACB-7D2CF2C6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BD29-F4BC-4343-8AB3-B737031C1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4120" y="228600"/>
            <a:ext cx="358128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kype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666880" y="1676520"/>
            <a:ext cx="36576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i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2:49:54Z</dcterms:created>
  <dc:creator>User</dc:creator>
  <dc:description/>
  <dc:language>en-US</dc:language>
  <cp:lastModifiedBy>User</cp:lastModifiedBy>
  <dcterms:modified xsi:type="dcterms:W3CDTF">2009-12-08T13:19:22Z</dcterms:modified>
  <cp:revision>2</cp:revision>
  <dc:subject/>
  <dc:title>Presentación de PowerPoint</dc:title>
</cp:coreProperties>
</file>